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fferent learning goals, success criteria, consolidating questions even though we are using the same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look at examples of each of these in the context of specific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BDDD-2EB1-4247-AA2F-6A1052A0DF7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look at examples of each of these in the context of specific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E6AA-C938-481E-ABB0-3C3C9A232CA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ole group discussion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ovide the template for reference for Sandra and for Er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 and Mary might want to have them use the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CBDA-8DC9-4D23-A445-D65EB93E0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BFC0-5873-41CB-9DE8-11D6B2E98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4F709-7EEC-45E6-9894-03F6A5BDC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00BF-8455-42A6-88A7-C3CAACE36B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8C62-40AC-43B3-8606-67E215555A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5627-D2C9-4796-9BD1-A32B3E2CE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FDB0-96DD-437A-BE4F-3792555B53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BEF7-10AD-4169-9AD5-9AACC3E4D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2C90A-DB40-43B4-AB80-E0845EC44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3374-34B7-4100-876A-DD90D8C76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6976-C6F2-4CC0-B214-E53D3ACC6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8415-0504-458B-BC5E-61E5F8210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E794-B87B-49FE-B29C-935FF980F5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8017-467B-4F30-A5FE-2FBA166091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844A-C17E-4C87-BE3C-A1F68E41E9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ample Solu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following sample solutions and decide if they are a good solution (based on your group’s decision about what a good answer looks lik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1E6A-B022-4D5E-852C-82E9E687DC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 Different Le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Generaliz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cation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explore our sample solutions through this different lens.  Determine where the solutions fit using these frame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A84C-5C5D-4149-9D25-6F28740A89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eneralization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1447920"/>
                <a:gridCol w="6781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a picture or constructing a model to represent the situation to count the desired attrib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the previous term or terms in the sequence to determine subsequent terms (Additive think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le-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a portion as a unit to construct a larger unit by multiplying. There may or may not be an appropriate adjustment for over-or-undercount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s-and-che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sing a rule without regard to why this rule might work. Usually this involves experimenting with various operations and numbers provided in the problem situ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ng an explicit rule that expresses the co-variation of two sets of data, based on information provided in the situation. An explicit rule can allow for the prediction of any term number in the patter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12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ustification Frame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3301920"/>
        </p:xfrm>
        <a:graphic>
          <a:graphicData uri="http://schemas.openxmlformats.org/drawingml/2006/table">
            <a:tbl>
              <a:tblPr/>
              <a:tblGrid>
                <a:gridCol w="3124080"/>
                <a:gridCol w="510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stification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0: No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s do not address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1: Appeal to external auth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 is made to the correctness stated by some other individual or reference 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2: Empirical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fication is provided through the correctness of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articula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3: Generic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uctive justification is expressed for a particular instan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4: Deductive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ity is given through a deductive argument that is independent of particular in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15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feel about these frame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these frameworks match your success criter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(frameworks/success criteria) is more beneficial for students?  teac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D376-87AB-45DB-9F25-CCCD2AF7EC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48E2-9572-4E2E-A1FB-0BB8F17858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ur Learning Goal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Did we meet them?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lore different representations of patterns and discover that different representations bring about different mathematical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erience creating learning goals, success criteria and consolidat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6172-50F1-4BE0-97F3-7667A5BB42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AB35-EBBA-40CA-8FE0-FAD4808148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E:\Beach Images\Landscapes (A - Ci)\Beach Scene 27.wmf"/>
          <p:cNvPicPr/>
          <p:nvPr/>
        </p:nvPicPr>
        <p:blipFill>
          <a:blip r:embed="rId2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ack to the mat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handout individu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with your table when everyone has finis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B13D-C582-4629-B111-CAF2518910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&amp; Algebra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E328-9B55-4916-ACC9-92E2A8CE7E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:\Beach Images\Beach &amp; Water (K - P)\Man with Toy Boat.wmf"/>
          <p:cNvPicPr/>
          <p:nvPr/>
        </p:nvPicPr>
        <p:blipFill>
          <a:blip r:embed="rId1"/>
          <a:stretch/>
        </p:blipFill>
        <p:spPr>
          <a:xfrm>
            <a:off x="2235240" y="2303640"/>
            <a:ext cx="4672080" cy="2250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E:\Beach Images\Landscapes (A - Ci)\Beach Scene 27.wmf"/>
          <p:cNvPicPr/>
          <p:nvPr/>
        </p:nvPicPr>
        <p:blipFill>
          <a:blip r:embed="rId2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ard Sor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receiving a card which contains a representation of a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ask is to find all the people that have a different representation of your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, discuss which representation you find the most clear and which ones you are the most/least comfortable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ECAE-41AE-45FA-A3F3-98CA2BB0A2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our learning goal was for the card s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we achiev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9151-8B0B-4AE9-8380-F159410624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E:\Beach Images\Beach &amp; Water (K - P)\Kayaking - No Paddle.wmf"/>
          <p:cNvPicPr/>
          <p:nvPr/>
        </p:nvPicPr>
        <p:blipFill>
          <a:blip r:embed="rId2"/>
          <a:stretch/>
        </p:blipFill>
        <p:spPr>
          <a:xfrm>
            <a:off x="4495680" y="2590920"/>
            <a:ext cx="2657520" cy="31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Table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how you would solve the problem on your own (3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 up and solve the problem in 2 different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BA75-89E5-414A-BD0C-FE57C8D7FC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6"/>
          <p:cNvGrpSpPr/>
          <p:nvPr/>
        </p:nvGrpSpPr>
        <p:grpSpPr>
          <a:xfrm>
            <a:off x="3962520" y="3886200"/>
            <a:ext cx="2882520" cy="1359000"/>
            <a:chOff x="3962520" y="3886200"/>
            <a:chExt cx="2882520" cy="1359000"/>
          </a:xfrm>
        </p:grpSpPr>
        <p:sp>
          <p:nvSpPr>
            <p:cNvPr id="71" name="AutoShape 17"/>
            <p:cNvSpPr/>
            <p:nvPr/>
          </p:nvSpPr>
          <p:spPr>
            <a:xfrm>
              <a:off x="4165560" y="4203720"/>
              <a:ext cx="1447560" cy="698400"/>
            </a:xfrm>
            <a:custGeom>
              <a:avLst/>
              <a:gdLst>
                <a:gd name="textAreaLeft" fmla="*/ 301320 w 1447560"/>
                <a:gd name="textAreaRight" fmla="*/ 1146240 w 1447560"/>
                <a:gd name="textAreaTop" fmla="*/ 145440 h 698400"/>
                <a:gd name="textAreaBottom" fmla="*/ 55296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18"/>
            <p:cNvSpPr/>
            <p:nvPr/>
          </p:nvSpPr>
          <p:spPr>
            <a:xfrm flipV="1">
              <a:off x="5245200" y="4203720"/>
              <a:ext cx="1447560" cy="698400"/>
            </a:xfrm>
            <a:custGeom>
              <a:avLst/>
              <a:gdLst>
                <a:gd name="textAreaLeft" fmla="*/ 301320 w 1447560"/>
                <a:gd name="textAreaRight" fmla="*/ 1146240 w 1447560"/>
                <a:gd name="textAreaTop" fmla="*/ 145440 h 698400"/>
                <a:gd name="textAreaBottom" fmla="*/ 55296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9"/>
            <p:cNvSpPr/>
            <p:nvPr/>
          </p:nvSpPr>
          <p:spPr>
            <a:xfrm>
              <a:off x="3962520" y="449568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0"/>
            <p:cNvSpPr/>
            <p:nvPr/>
          </p:nvSpPr>
          <p:spPr>
            <a:xfrm>
              <a:off x="4749840" y="4991040"/>
              <a:ext cx="21564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21"/>
            <p:cNvSpPr/>
            <p:nvPr/>
          </p:nvSpPr>
          <p:spPr>
            <a:xfrm>
              <a:off x="5524560" y="501660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2"/>
            <p:cNvSpPr/>
            <p:nvPr/>
          </p:nvSpPr>
          <p:spPr>
            <a:xfrm>
              <a:off x="6210360" y="5016600"/>
              <a:ext cx="2160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3"/>
            <p:cNvSpPr/>
            <p:nvPr/>
          </p:nvSpPr>
          <p:spPr>
            <a:xfrm>
              <a:off x="6629400" y="436860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4"/>
            <p:cNvSpPr/>
            <p:nvPr/>
          </p:nvSpPr>
          <p:spPr>
            <a:xfrm>
              <a:off x="4419720" y="392400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25"/>
            <p:cNvSpPr/>
            <p:nvPr/>
          </p:nvSpPr>
          <p:spPr>
            <a:xfrm>
              <a:off x="5092560" y="3911400"/>
              <a:ext cx="2160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6"/>
            <p:cNvSpPr/>
            <p:nvPr/>
          </p:nvSpPr>
          <p:spPr>
            <a:xfrm>
              <a:off x="5918400" y="3886200"/>
              <a:ext cx="21564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pectations, Big Ideas, 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compare your answers and discuss some of the different ways of solving these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chart paper, deter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pectation(s) (Grade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Ide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rning Goal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D442-7A68-45F6-B817-2DA7E58C93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are you looking for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, determine what a good answer to the table problem would look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AAAF-D52C-4958-B346-810FA89AEF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ng Ques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, determine what a good consolidating question would be to determine that your learning goal has been reac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C545-8C24-4E1B-B450-5F89E28130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witch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chart papers with another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ey similar? 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550A-CCE9-449A-B2F9-4EE999C842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d.wines</cp:lastModifiedBy>
  <dcterms:modified xsi:type="dcterms:W3CDTF">2011-08-05T14:49:11Z</dcterms:modified>
  <cp:revision>37</cp:revision>
  <dc:subject/>
  <dc:title>&lt;Title&gt;</dc:title>
</cp:coreProperties>
</file>